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579E-EAC1-47BD-B09D-05815F6AE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4C3A-A7CE-466B-A3AC-1699B95D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466C-DAE5-4116-AC38-045C0824E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AA19-7B58-4A30-8F66-4B8B4C094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551C-0CA2-44DA-B422-5E8562D7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7C40-EA0D-4C1B-BA24-697B3E3D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AF4B-AE10-4660-9B24-4C56D895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6DEF-82A2-4B98-9EF5-A8BA880C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85A9-9B80-4F19-8D02-40839416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19EC-0713-4276-8311-9D2B7DE9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65D4-4711-4C54-AD30-BD703E7D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0342-D7AF-4982-B4A4-A0C3FEBA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B833-EBB8-467C-8041-FDE498098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981080"/>
            <a:ext cx="2514600" cy="251460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00400" y="1143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47242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F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43400" y="47242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762120"/>
            <a:ext cx="35053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  <a:ea typeface="Arial"/>
              </a:rPr>
              <a:t>1. </a:t>
            </a:r>
            <a:r>
              <a:rPr b="0" lang="en-US" sz="1800" spc="-1" strike="noStrike">
                <a:solidFill>
                  <a:srgbClr val="009999"/>
                </a:solidFill>
                <a:latin typeface="Tahoma"/>
                <a:ea typeface="Arial"/>
              </a:rPr>
              <a:t>Where am I go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5334120"/>
            <a:ext cx="2743200" cy="78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Tahoma"/>
                <a:ea typeface="Arial"/>
              </a:rPr>
              <a:t>2. Where are I n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4120" y="5562720"/>
            <a:ext cx="228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5257800"/>
            <a:ext cx="350532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ahoma"/>
                <a:ea typeface="Arial"/>
              </a:rPr>
              <a:t>3. How will we get to where 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ahoma"/>
                <a:ea typeface="Arial"/>
              </a:rPr>
              <a:t>want to 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6276960"/>
            <a:ext cx="662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Adapted from The QLD Framework and 5 Key Questions, O’Neil &amp; Conzemius,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2:21:37Z</dcterms:created>
  <dc:creator>North Rockland High School</dc:creator>
  <dc:description/>
  <dc:language>en-US</dc:language>
  <cp:lastModifiedBy>North Rockland Schools</cp:lastModifiedBy>
  <dcterms:modified xsi:type="dcterms:W3CDTF">2009-05-14T14:29:43Z</dcterms:modified>
  <cp:revision>1</cp:revision>
  <dc:subject/>
  <dc:title>Slide 1</dc:title>
</cp:coreProperties>
</file>